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F23BD-C8C3-4742-960C-B04BF6829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F440D-4816-4598-AFBE-15C7E3991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4BDCD-9888-4D14-A479-691E2F39F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F0F35-16FD-44A0-90E9-179860F30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0D973-D839-4010-A6D4-291B8B944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7B00A-4DDB-4319-B9A2-51776B85A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23F80-19E8-4992-8B0A-9D62AC44B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F9B5D-57CA-4F8F-A000-F469B9BD3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DD0E4-9D09-4FAD-A765-7B8091B05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35FC8-1E9D-4B57-9EDF-55FAF82D8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54021-00A3-4E8B-8044-7656F98C0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C59A6-E023-4CE9-9E28-6ACC409FE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3EFEC-13F2-47AF-8641-F63DACF99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92876-951C-49BB-8265-C2B2EE350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F5759-910C-47BE-B3AF-9A8B0B43A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B8F04-9A6F-4099-86EC-46C9E5B72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1C545-E276-420C-9039-317F25263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86488-57C8-4217-922F-FF11E9A28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CFD67-8028-41C0-80E4-5441BCF64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33BA6-C13F-487E-882C-231A97A20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4B088-881B-41A9-AFB6-FB9CB7732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F511D-C18F-4BB8-8318-FEFB2B8AD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53657-682F-4FF9-B8C1-D2A04F364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B5982-A75A-4BFC-8F03-F8571F288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B532-24C2-4C05-B1F5-07219CF0FB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04DB-F6E2-4496-9F39-34F0F297EBF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55640" y="549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SQL – Views, UDFs and Stored Procedures</a:t>
            </a:r>
            <a:endParaRPr b="0" lang="en-US" sz="4400" spc="-1" strike="noStrike">
              <a:solidFill>
                <a:srgbClr val="ccecff"/>
              </a:solidFill>
              <a:latin typeface="Arial"/>
            </a:endParaRPr>
          </a:p>
        </p:txBody>
      </p:sp>
      <p:sp>
        <p:nvSpPr>
          <p:cNvPr id="212" name="PlaceHolder 2"/>
          <p:cNvSpPr>
            <a:spLocks noGrp="1"/>
          </p:cNvSpPr>
          <p:nvPr>
            <p:ph type="subTitle"/>
          </p:nvPr>
        </p:nvSpPr>
        <p:spPr>
          <a:xfrm>
            <a:off x="1332000" y="270828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king with Views, UDFs and Stored Procedures to extract, insert and update data from SQL databases</a:t>
            </a:r>
            <a:endParaRPr b="0" lang="en-US" sz="2800" spc="-1" strike="noStrike">
              <a:solidFill>
                <a:srgbClr val="ffffff"/>
              </a:solidFill>
              <a:latin typeface="Arial"/>
            </a:endParaRPr>
          </a:p>
        </p:txBody>
      </p:sp>
      <p:sp>
        <p:nvSpPr>
          <p:cNvPr id="213" name="Rectangle 4"/>
          <p:cNvSpPr/>
          <p:nvPr/>
        </p:nvSpPr>
        <p:spPr>
          <a:xfrm>
            <a:off x="1258920" y="494172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y David Smith</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order Asset Management Lt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285560"/>
            <a:ext cx="8229600" cy="4840200"/>
          </a:xfrm>
          <a:prstGeom prst="rect">
            <a:avLst/>
          </a:prstGeom>
          <a:noFill/>
          <a:ln w="0">
            <a:noFill/>
          </a:ln>
        </p:spPr>
        <p:txBody>
          <a:bodyPr anchor="t">
            <a:normAutofit/>
          </a:bodyPr>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in today's world of database use over the Web, we need to think carefully about what data is passed between server and client and vice versa and to minimise it. </a:t>
            </a: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 want to process as much as we can on the server and as little as we can on the client.</a:t>
            </a: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porate data is often accessed by different applications and therefore encapsulating business logic close to the database can be very useful. </a:t>
            </a: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nimising the writing of code is always important  to developers and this is just the same when working with SQL as with your application language.</a:t>
            </a: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iding the core design of your application’s database is sometimes important.</a:t>
            </a: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mplifying user access , often via tools such as report designers, word-processors and spreadsheets , to their corporate data  and especially aggregated data, is important.</a:t>
            </a: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se and many other reasons it is worth considering the addition to your database of entities such as Views, User Defined Functions and Stored Procedures.</a:t>
            </a: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215"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Overview</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SQL Views</a:t>
            </a:r>
            <a:endParaRPr b="0" lang="en-US" sz="3600" spc="-1" strike="noStrike">
              <a:solidFill>
                <a:srgbClr val="ccecff"/>
              </a:solidFill>
              <a:latin typeface="Arial"/>
            </a:endParaRPr>
          </a:p>
        </p:txBody>
      </p:sp>
      <p:sp>
        <p:nvSpPr>
          <p:cNvPr id="217" name="PlaceHolder 2"/>
          <p:cNvSpPr>
            <a:spLocks noGrp="1"/>
          </p:cNvSpPr>
          <p:nvPr>
            <p:ph/>
          </p:nvPr>
        </p:nvSpPr>
        <p:spPr>
          <a:xfrm>
            <a:off x="468360" y="1197000"/>
            <a:ext cx="8229600" cy="5184720"/>
          </a:xfrm>
          <a:prstGeom prst="rect">
            <a:avLst/>
          </a:prstGeom>
          <a:noFill/>
          <a:ln w="0">
            <a:noFill/>
          </a:ln>
        </p:spPr>
        <p:txBody>
          <a:bodyPr anchor="t">
            <a:normAutofit/>
          </a:bodyPr>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at is a View?</a:t>
            </a:r>
            <a:endParaRPr b="0" lang="en-US" sz="16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iew can be thought of as either a virtual table or a stored query. The data accessible through a view is not stored in the database as a distinct object. What is stored in the database is a SELECT statement. The result set of the SELECT statement forms the virtual table returned by the view. A user can use this virtual table by referencing the view name in Transact-SQL statements the same way a table is referenced.</a:t>
            </a:r>
            <a:endParaRPr b="0" lang="en-US" sz="14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view can</a:t>
            </a:r>
            <a:endParaRPr b="0" lang="en-US" sz="16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Join columns from multiple tables so that they look like a single table.</a:t>
            </a:r>
            <a:endParaRPr b="0" lang="en-US" sz="14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pply aggregate information rather than basic row/column data. For example, present the sum of a column, or the maximum or minimum value from a column.</a:t>
            </a:r>
            <a:endParaRPr b="0" lang="en-US" sz="14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reference another view</a:t>
            </a:r>
            <a:endParaRPr b="0" lang="en-US" sz="14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used to partition data across multiple databases </a:t>
            </a:r>
            <a:endParaRPr b="0" lang="en-US" sz="14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e updatable (can be the target of UPDATE, DELETE, or INSERT statements), as long as the modification affects only one of the base tables referenced by the view. This restriction can be negated through the use of Triggers e.g. an INSERT action on a VIEW could be replaced with a Trigger action that itself inserted data into multiple tables.</a:t>
            </a:r>
            <a:endParaRPr b="0" lang="en-US" sz="14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e indexed</a:t>
            </a:r>
            <a:endParaRPr b="0" lang="en-US" sz="14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e encrypted to hide the contents of the view definition and therefore ‘clues’ as to the underlying tables and their definitions etc (please note that you cannot amend a View definition that has been defined ‘WITH ENCRYPTION’ and that you need to keep a copy of the View definition should you ever need to amend i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259920"/>
            <a:ext cx="8229600" cy="647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SQL Views</a:t>
            </a:r>
            <a:endParaRPr b="0" lang="en-US" sz="3600" spc="-1" strike="noStrike">
              <a:solidFill>
                <a:srgbClr val="ccecff"/>
              </a:solidFill>
              <a:latin typeface="Arial"/>
            </a:endParaRPr>
          </a:p>
        </p:txBody>
      </p:sp>
      <p:sp>
        <p:nvSpPr>
          <p:cNvPr id="219" name="PlaceHolder 2"/>
          <p:cNvSpPr>
            <a:spLocks noGrp="1"/>
          </p:cNvSpPr>
          <p:nvPr>
            <p:ph/>
          </p:nvPr>
        </p:nvSpPr>
        <p:spPr>
          <a:xfrm>
            <a:off x="468360" y="1052280"/>
            <a:ext cx="8229600" cy="5073480"/>
          </a:xfrm>
          <a:prstGeom prst="rect">
            <a:avLst/>
          </a:prstGeom>
          <a:noFill/>
          <a:ln w="0">
            <a:noFill/>
          </a:ln>
        </p:spPr>
        <p:txBody>
          <a:bodyPr anchor="t">
            <a:normAutofit fontScale="99000"/>
          </a:bodyPr>
          <a:p>
            <a:pPr marL="339480" indent="-33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y and when to use a View?</a:t>
            </a:r>
            <a:endParaRPr b="0" lang="en-US" sz="1600" spc="-1" strike="noStrike">
              <a:solidFill>
                <a:srgbClr val="ffffff"/>
              </a:solidFill>
              <a:latin typeface="Arial"/>
            </a:endParaRPr>
          </a:p>
          <a:p>
            <a:pPr lvl="1" marL="735480" indent="-28296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o restrict a user to specific rows in a table. For example, allow an employee to see only the rows recording his or her work in a labour-tracking table.</a:t>
            </a:r>
            <a:endParaRPr b="0" lang="en-US" sz="1400" spc="-1" strike="noStrike">
              <a:solidFill>
                <a:srgbClr val="ffffff"/>
              </a:solidFill>
              <a:latin typeface="Arial"/>
            </a:endParaRPr>
          </a:p>
          <a:p>
            <a:pPr lvl="1" marL="735480" indent="-28296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o restrict a user to specific columns. For example, to allow employees who do not work in payroll to see the name, office, work phone, and department columns in an employee table, but not allow them to see any columns with salary or personal information.</a:t>
            </a:r>
            <a:endParaRPr b="0" lang="en-US" sz="1400" spc="-1" strike="noStrike">
              <a:solidFill>
                <a:srgbClr val="ffffff"/>
              </a:solidFill>
              <a:latin typeface="Arial"/>
            </a:endParaRPr>
          </a:p>
          <a:p>
            <a:pPr lvl="1" marL="735480" indent="-28296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o restrict your customers from seeing the underlying data tables within a database/application.</a:t>
            </a:r>
            <a:endParaRPr b="0" lang="en-US" sz="1400" spc="-1" strike="noStrike">
              <a:solidFill>
                <a:srgbClr val="ffffff"/>
              </a:solidFill>
              <a:latin typeface="Arial"/>
            </a:endParaRPr>
          </a:p>
          <a:p>
            <a:pPr lvl="1" marL="735480" indent="-28296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o allow users of your applications with built-in report generators easier ways of accessing relational data when designing new reports with views hiding any complexity of how tables are joined together. </a:t>
            </a:r>
            <a:endParaRPr b="0" lang="en-US" sz="1400" spc="-1" strike="noStrike">
              <a:solidFill>
                <a:srgbClr val="ffffff"/>
              </a:solidFill>
              <a:latin typeface="Arial"/>
            </a:endParaRPr>
          </a:p>
          <a:p>
            <a:pPr lvl="1" marL="735480" indent="-28296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o encapsulate some business logic by providing a single definition of what may be a complex, and potentially confusing, query. It also can be re-used and hence minimise code re-write. </a:t>
            </a:r>
            <a:endParaRPr b="0" lang="en-US" sz="1400" spc="-1" strike="noStrike">
              <a:solidFill>
                <a:srgbClr val="ffffff"/>
              </a:solidFill>
              <a:latin typeface="Arial"/>
            </a:endParaRPr>
          </a:p>
          <a:p>
            <a:pPr lvl="1" marL="735480" indent="-28296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o provide easy ways for users to view aggregate information, often one of the more complex  demands for SQL code design.</a:t>
            </a:r>
            <a:endParaRPr b="0" lang="en-US" sz="1400" spc="-1" strike="noStrike">
              <a:solidFill>
                <a:srgbClr val="ffffff"/>
              </a:solidFill>
              <a:latin typeface="Arial"/>
            </a:endParaRPr>
          </a:p>
          <a:p>
            <a:pPr marL="339480" indent="-33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Views be Indexed?</a:t>
            </a:r>
            <a:endParaRPr b="0" lang="en-US" sz="1600" spc="-1" strike="noStrike">
              <a:solidFill>
                <a:srgbClr val="ffffff"/>
              </a:solidFill>
              <a:latin typeface="Arial"/>
            </a:endParaRPr>
          </a:p>
          <a:p>
            <a:pPr lvl="1" marL="735480" indent="-28296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Yes – however the first index you create on a view has to be a ‘Clustered Index’ view; as soon as you do this, the view takes on a wholly different form with the table data now also being stored at the leaf level in the index. The effect of this is that any changes in the underlying table forces the same changes to be written to the index. Therefore it is illogical to create a view, and index it, on any table that is heavily edited. However, creating indexes on views referencing large lookup tables would indeed provide speed improvements in certain queries especially views containing aggregate inform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Views speed up queries?</a:t>
            </a:r>
            <a:endParaRPr b="0" lang="en-US" sz="16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nless the view is indexed then the answer to the above is </a:t>
            </a:r>
            <a:r>
              <a:rPr b="1" lang="en-GB" sz="1400" spc="-1" strike="noStrike">
                <a:solidFill>
                  <a:srgbClr val="ffffff"/>
                </a:solidFill>
                <a:latin typeface="Arial"/>
              </a:rPr>
              <a:t>no</a:t>
            </a:r>
            <a:r>
              <a:rPr b="0" lang="en-GB" sz="1400" spc="-1" strike="noStrike">
                <a:solidFill>
                  <a:srgbClr val="ffffff"/>
                </a:solidFill>
                <a:latin typeface="Arial"/>
              </a:rPr>
              <a:t>. In fact the SQL query engine merges the definition of the view into any relevant query before execution.</a:t>
            </a:r>
            <a:endParaRPr b="0" lang="en-US" sz="14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Views take parameters?</a:t>
            </a:r>
            <a:endParaRPr b="0" lang="en-US" sz="16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 naturally views can restrict users to certain rows but only by specifying the criteria in the view definition.</a:t>
            </a:r>
            <a:endParaRPr b="0" lang="en-US" sz="14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rtitioned Views – what are they and should you use them?</a:t>
            </a:r>
            <a:endParaRPr b="0" lang="en-US" sz="16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partitioned view’ is more of a ‘partitioned table’ with a VIEW made from several SELECT statements UNIONED together. Very large tables can be split into smaller member tables, based upon a single column, using CHECK constraints to ensure that only the correct values are inserted into these smaller tables. A VIEW is then defined bringing back together all the data from these member tables; when using this VIEW, the query optimiser in SQL is able to identify which member table to then use for scanning (based upon this key column) rather than scanning all the member tables. This technique is used with very large tables where there is a natural order to the way data is added, such as orders or sales tables, and older data archived and used only for aged analysis.</a:t>
            </a:r>
            <a:endParaRPr b="0" lang="en-US" sz="14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all the rules regarding partitioned views are followed, then they can be treated completely as a Virtual Table, with full UPDATE, INSERT and DELETE facilities. </a:t>
            </a:r>
            <a:endParaRPr b="0" lang="en-US" sz="14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mber tables may reside on one or more servers, with the latter scenario used for load balancing. When member tables are placed on a single server the partitioned view is called a local partitioned view and when placed on separate ‘linked’ servers it is called a distributed partitioned view.</a:t>
            </a:r>
            <a:endParaRPr b="0" lang="en-US" sz="14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1" name="PlaceHolder 2"/>
          <p:cNvSpPr>
            <a:spLocks noGrp="1"/>
          </p:cNvSpPr>
          <p:nvPr>
            <p:ph type="title"/>
          </p:nvPr>
        </p:nvSpPr>
        <p:spPr>
          <a:xfrm>
            <a:off x="468360" y="259920"/>
            <a:ext cx="8229600" cy="79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SQL View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 all create functions to isolate functionality and minimise code re-write in our applications and the same can be done within the database itself. In SQL a user-defined function can be one of 3 types, a Scalar function, an Inline Table-valued function and a Multi-Statement Table-valued function. Although in theory un-necessary, most functions are used with parameters and accept between 1 and 1024 parameters.</a:t>
            </a:r>
            <a:endParaRPr b="0" lang="en-US" sz="1600" spc="-1" strike="noStrike">
              <a:solidFill>
                <a:srgbClr val="ffffff"/>
              </a:solidFill>
              <a:latin typeface="Arial"/>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calar Functions return a simple scalar value, such as an Integer, Varchar (string) etc.</a:t>
            </a:r>
            <a:endParaRPr b="0" lang="en-US" sz="1400" spc="-1" strike="noStrike">
              <a:solidFill>
                <a:srgbClr val="ffffff"/>
              </a:solidFill>
              <a:latin typeface="Arial"/>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able and Multi-Statement -valued functions return a table with the difference being:</a:t>
            </a:r>
            <a:endParaRPr b="0" lang="en-US" sz="1400" spc="-1" strike="noStrike">
              <a:solidFill>
                <a:srgbClr val="ffffff"/>
              </a:solidFill>
              <a:latin typeface="Arial"/>
            </a:endParaRPr>
          </a:p>
          <a:p>
            <a:pPr lvl="2" marL="1143000" indent="-228600">
              <a:spcBef>
                <a:spcPts val="3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Table-valued function definition is a simple SELECT statement</a:t>
            </a:r>
            <a:endParaRPr b="0" lang="en-US" sz="1200" spc="-1" strike="noStrike">
              <a:solidFill>
                <a:srgbClr val="ffffff"/>
              </a:solidFill>
              <a:latin typeface="Arial"/>
            </a:endParaRPr>
          </a:p>
          <a:p>
            <a:pPr lvl="2" marL="1143000" indent="-228600">
              <a:spcBef>
                <a:spcPts val="3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Multi-Statement Table-valued function definition occurs when the returned table data cannot be achieved with a simple select statement and more complex SQL statements are involved.</a:t>
            </a:r>
            <a:endParaRPr b="0" lang="en-US" sz="12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y use UDFs?</a:t>
            </a:r>
            <a:endParaRPr b="0" lang="en-US" sz="1600" spc="-1" strike="noStrike">
              <a:solidFill>
                <a:srgbClr val="ffffff"/>
              </a:solidFill>
              <a:latin typeface="Arial"/>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DFs can provide many of the same benefits that Views do, such as minimising code re-write, encapsulating business logic and hiding query complexity from the end user but also provide additional functionality through the fact that they accept parameters and that they can comprise complex SQL statements including the use of cursors.</a:t>
            </a:r>
            <a:endParaRPr b="0" lang="en-US" sz="1400" spc="-1" strike="noStrike">
              <a:solidFill>
                <a:srgbClr val="ffffff"/>
              </a:solidFill>
              <a:latin typeface="Arial"/>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able-Valued UDFs (both types), in effect, provide the functionality of a parameterised VIEW.</a:t>
            </a:r>
            <a:endParaRPr b="0" lang="en-US" sz="1400" spc="-1" strike="noStrike">
              <a:solidFill>
                <a:srgbClr val="ffffff"/>
              </a:solidFill>
              <a:latin typeface="Arial"/>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y can be both Encrypted and have Permissions set against them just like VIEWS.</a:t>
            </a:r>
            <a:endParaRPr b="0" lang="en-US" sz="1400" spc="-1" strike="noStrike">
              <a:solidFill>
                <a:srgbClr val="ffffff"/>
              </a:solidFill>
              <a:latin typeface="Arial"/>
            </a:endParaRPr>
          </a:p>
        </p:txBody>
      </p:sp>
      <p:sp>
        <p:nvSpPr>
          <p:cNvPr id="223" name="PlaceHolder 2"/>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SQL User-Defined Function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terministic/Non-Deterministic – something to think about.</a:t>
            </a:r>
            <a:endParaRPr b="0" lang="en-US" sz="1600" spc="-1" strike="noStrike">
              <a:solidFill>
                <a:srgbClr val="ffffff"/>
              </a:solidFill>
              <a:latin typeface="Arial"/>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unctions are either Deterministic or Non-Deterministic. They are Deterministic if they always return the same value given the same set of inputs and Non-Deterministic if they can return different values given the same set of inputs. You cannot use, in SQL 2000, function definitions that call built-in non-deterministic functions such as GETDATE, @@IDLE etc. </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3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qually calls from within a UDF definition to an extended stored procedure may then deem the UDF to be non-deterministic</a:t>
            </a:r>
            <a:r>
              <a:rPr b="0" lang="en-GB" sz="1200" spc="-1" strike="noStrike">
                <a:solidFill>
                  <a:srgbClr val="ffffff"/>
                </a:solidFill>
                <a:latin typeface="Arial"/>
              </a:rPr>
              <a:t>.</a:t>
            </a:r>
            <a:endParaRPr b="0" lang="en-US" sz="12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2"/>
          <p:cNvSpPr>
            <a:spLocks noGrp="1"/>
          </p:cNvSpPr>
          <p:nvPr>
            <p:ph type="title"/>
          </p:nvPr>
        </p:nvSpPr>
        <p:spPr>
          <a:xfrm>
            <a:off x="468360" y="26028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SQL User-Defined Function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7200" y="1071720"/>
            <a:ext cx="8229600" cy="5054400"/>
          </a:xfrm>
          <a:prstGeom prst="rect">
            <a:avLst/>
          </a:prstGeom>
          <a:noFill/>
          <a:ln w="0">
            <a:noFill/>
          </a:ln>
        </p:spPr>
        <p:txBody>
          <a:bodyPr anchor="t">
            <a:normAutofit/>
          </a:bodyPr>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ored procedures are the ‘sub-routines’ of the SQL world, encapsulating any set of SQL statements, be they simple or complex, and not only take input parameters but also output parameters, as well as returning a value. Just like views and UDFs they increase the modularity of your application design, allowing you to change the ‘module’ (i.e. change joins etc) without effecting the GUI and move processing from the GUI to the server.</a:t>
            </a:r>
            <a:endParaRPr b="0" lang="en-US" sz="1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y do not, in MS SQL 7 and onwards, offer any compilation gains over and above the same set of SQL statements executed in any other way. The database engine in these versions of MS SQL compiles and caches all execution plans in a temporary cache and compares new SQL statements with the SQL statements of existing execution plans and, if it finds a match, always uses the cached, and therefore compiled, version. </a:t>
            </a:r>
            <a:endParaRPr b="0" lang="en-US" sz="1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Just like Views and UDFs, we can use SPs to hide the tables etc from the end user if we want to through either permissions on the SP or through encryption.</a:t>
            </a:r>
            <a:endParaRPr b="0" lang="en-US" sz="1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s are often more than one set of SQL statements, e.g. one sp could insert a new order item and equally then update sales total in the sales table.</a:t>
            </a:r>
            <a:endParaRPr b="0" lang="en-US" sz="1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s are often used for data insertion, freeing up the GUI design from worrying over potential locking issues.</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7" name="PlaceHolder 2"/>
          <p:cNvSpPr>
            <a:spLocks noGrp="1"/>
          </p:cNvSpPr>
          <p:nvPr>
            <p:ph type="title"/>
          </p:nvPr>
        </p:nvSpPr>
        <p:spPr>
          <a:xfrm>
            <a:off x="468360" y="26028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SQL Stored Procedure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Summary of SQL Views, UDFS and SPs </a:t>
            </a:r>
            <a:endParaRPr b="0" lang="en-US" sz="3200" spc="-1" strike="noStrike">
              <a:solidFill>
                <a:srgbClr val="ccecff"/>
              </a:solidFill>
              <a:latin typeface="Arial"/>
            </a:endParaRPr>
          </a:p>
        </p:txBody>
      </p:sp>
      <p:graphicFrame>
        <p:nvGraphicFramePr>
          <p:cNvPr id="229" name=""/>
          <p:cNvGraphicFramePr/>
          <p:nvPr/>
        </p:nvGraphicFramePr>
        <p:xfrm>
          <a:off x="539640" y="1214280"/>
          <a:ext cx="8229600" cy="4869000"/>
        </p:xfrm>
        <a:graphic>
          <a:graphicData uri="http://schemas.openxmlformats.org/drawingml/2006/table">
            <a:tbl>
              <a:tblPr/>
              <a:tblGrid>
                <a:gridCol w="4967280"/>
                <a:gridCol w="1008360"/>
                <a:gridCol w="1152360"/>
                <a:gridCol w="1101600"/>
              </a:tblGrid>
              <a:tr h="353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equiremen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e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UDF</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P</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2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Reduce network traffic – obviou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curity and object renaming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e. hide the core table details from the end use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2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cryption i.e. hide the inner details of the object from the end use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2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capsulate business logic</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vide rapid and easy access to otherwise complex SQL code including aggregate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ork with UPDATE, INSERT &amp; DELETE (without Trigger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 (single tabl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n include multiple distinct SQL statement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n accept input parameter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es</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be Indexed (one or more indexes) to provide greater query speed</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ustered index firs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0T11:12:16Z</dcterms:created>
  <dc:creator>David Smith</dc:creator>
  <dc:description/>
  <dc:language>en-US</dc:language>
  <cp:lastModifiedBy> </cp:lastModifiedBy>
  <dcterms:modified xsi:type="dcterms:W3CDTF">2008-05-13T19:25:38Z</dcterms:modified>
  <cp:revision>86</cp:revision>
  <dc:subject/>
  <dc:title>SQL – An Introduction</dc:title>
</cp:coreProperties>
</file>